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75B-C06A-4695-914C-2A1218DB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C1E-E537-4AFC-AADD-1C67059E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57B-CC29-484B-9595-32C5A561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9B3-DE48-43C7-93B3-880A34FB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D98F-7A7D-4406-BEBC-EC3D19C2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1295-4499-4A21-B9BA-C1E6918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DC09-3D8C-403C-A51E-6EC36C34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906C-7C1D-43C8-88C8-738E6EAB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FED-5E35-44A4-9AA1-DC07516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D02D-B32A-46A9-8BED-444C20CB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8056-DD79-4C9C-AA8D-747CA25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2CD-567E-49D2-88C7-5F804DAD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2134-2C5C-4C0B-99FF-3DF937AC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C25E-5126-4A44-B173-80FC7388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40B8-AEA0-4B56-B3F8-E46D08BE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B4E3-E0D4-4B30-9C90-C2BF6C29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7B1B-26D1-49B6-95FF-8CBA025F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6A0-80A1-4281-B888-783B339B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85C-431B-44CC-AF55-22622588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9BB-59D6-4067-9438-67306F0A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3B6-6A69-4EE8-891B-ECC77505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268-48EC-4AF9-924B-6C2ABF2C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DA8-BCAF-4848-8E02-EDB3F9B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DAC-A00B-4D6E-AEF0-9AACF16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E73F-2B01-4BDE-BA1C-959DF8DDA5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5169-778D-455A-ADD2-625FA636BC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Haunted Scarecrow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by Gle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de a scarecrow for the front yard every year , but this year the scarecrow…is haunted! One day I went in the garage. I turned on the light and I saw a scarecrow. It was alive! I had to do something. I got a stick. I whacked the scarecrow’s head off. The next day it was gone.           THE END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08:01Z</dcterms:created>
  <dc:creator>dornell frazier</dc:creator>
  <dc:description/>
  <dc:language>en-US</dc:language>
  <cp:lastModifiedBy>dornell frazier</cp:lastModifiedBy>
  <dcterms:modified xsi:type="dcterms:W3CDTF">2010-11-04T16:19:37Z</dcterms:modified>
  <cp:revision>5</cp:revision>
  <dc:subject/>
  <dc:title>Slide 1</dc:title>
</cp:coreProperties>
</file>